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3087AD-F0AF-4991-8590-782B6D249C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48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8288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48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41896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4360" y="53964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0640" y="41896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18288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96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98560" y="539640"/>
            <a:ext cx="450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bdad"/>
                </a:solidFill>
                <a:latin typeface="Times New Roman"/>
                <a:ea typeface="DejaVu Sans"/>
              </a:rPr>
              <a:t>Linux Foundation CE Workgroup / Embedded Linux Conferenc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348240" y="1890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DejaVu Sans"/>
              </a:rPr>
              <a:t>Technical Show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w="381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716360" y="1557360"/>
            <a:ext cx="1800" cy="5300640"/>
          </a:xfrm>
          <a:prstGeom prst="line">
            <a:avLst/>
          </a:prstGeom>
          <a:ln w="9360">
            <a:solidFill>
              <a:srgbClr val="00a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7360" y="1539720"/>
            <a:ext cx="17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What is demonst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747320" y="155736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What wa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851360" y="5770440"/>
            <a:ext cx="413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Source code or detail technical information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2560" y="5788080"/>
            <a:ext cx="17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ac56"/>
                </a:solidFill>
                <a:latin typeface="Times New Roman"/>
                <a:ea typeface="DejaVu Sans"/>
              </a:rPr>
              <a:t>Hardwa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49360"/>
            <a:ext cx="91440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758880" cy="7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758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360" y="53964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1160" y="6904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Demonstration 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7400" y="1125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resenter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00" y="6904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DejaVu Sans"/>
              </a:rPr>
              <a:t>Quick Boot Up Ma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080" y="112536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omas Brown / Brown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1920" y="6004080"/>
            <a:ext cx="32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e patch was sent to LKML in Sep. 20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48200" y="1987560"/>
            <a:ext cx="318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t eliminates the unnecessary process f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uring boot up time….. See the 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de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8000" y="1971720"/>
            <a:ext cx="27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urprisingly quick cold boot up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40" y="6006960"/>
            <a:ext cx="25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ower PC 4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32MB NAND Flash Memory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9800" y="2924280"/>
            <a:ext cx="2390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main (argc,argv)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/* Here is an example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ess_a (_INTQUICK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ess_foo 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kill_kernel (IMMEDIAT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/* It is bad way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    </a:t>
            </a: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kill_kernel (AFT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99ff"/>
                </a:solidFill>
                <a:latin typeface="Courier New"/>
                <a:ea typeface="DejaVu Sans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068640"/>
            <a:ext cx="5329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 Black"/>
                <a:ea typeface="DejaVu Sans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12-01-12T23:48:13Z</dcterms:modified>
  <cp:revision>2</cp:revision>
  <dc:subject/>
  <dc:title>スライド 1</dc:title>
</cp:coreProperties>
</file>